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83725"/>
        <c:axId val="17003229"/>
      </c:barChart>
      <c:catAx>
        <c:axId val="69583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03229"/>
        <c:crosses val="autoZero"/>
        <c:auto val="1"/>
        <c:lblAlgn val="ctr"/>
        <c:lblOffset val="100"/>
        <c:noMultiLvlLbl val="0"/>
      </c:catAx>
      <c:valAx>
        <c:axId val="1700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83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C5D-5147-4B5D-ACB2-17A0109E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E59-9B1B-42D8-9D06-1345D061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A1D-9386-4D0E-9EFF-D6BE324B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D6D-78F6-4374-B886-B7F2CC29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010-744E-4AD2-BF98-92C4B8C5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0D7-F505-4F85-8A4B-BB4A491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091-9333-42B7-80A3-F43B585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4EC-2279-4C80-841A-87CA8CF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AAE-F28F-474A-8F24-AC9640DE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971-7463-433C-BD46-3A4E32C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240-1A0F-4A43-8213-A01A99A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FAE-BBE9-40B7-BC31-6E402D7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E892-9841-4B93-96D9-9AFD398F94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