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60758"/>
        <c:axId val="37870430"/>
      </c:barChart>
      <c:catAx>
        <c:axId val="762607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70430"/>
        <c:crosses val="autoZero"/>
        <c:auto val="1"/>
        <c:lblAlgn val="ctr"/>
        <c:lblOffset val="100"/>
        <c:noMultiLvlLbl val="0"/>
      </c:catAx>
      <c:valAx>
        <c:axId val="37870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607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DEB5-1B07-46B7-B708-15C9E7DA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73D1-3C33-4301-9009-695DB16A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1336-A873-4B38-959A-F558C654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D5C-3C29-460E-8408-36B51A04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1F81-A90E-4BC4-B09B-79990BBC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0FC-4C03-46A9-9E90-403D4376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C9E1-266D-4FBC-A333-03AB1FD6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E2B-4D79-44F6-B1F2-60E22BF4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D8B-8ABA-4922-9F5F-2A587373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65BF-5ABE-4753-83C8-E9E235D2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410-04C4-45F3-A3EF-8E9A1E99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D533-48C6-4156-A166-B3CD8495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3592C-F393-42D8-8F03-5EA020FB21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