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5791"/>
        <c:axId val="28293256"/>
      </c:barChart>
      <c:catAx>
        <c:axId val="7225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93256"/>
        <c:crosses val="autoZero"/>
        <c:auto val="1"/>
        <c:lblAlgn val="ctr"/>
        <c:lblOffset val="100"/>
        <c:noMultiLvlLbl val="0"/>
      </c:catAx>
      <c:valAx>
        <c:axId val="28293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5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E4B-47B3-40B9-81A8-4DE4E71E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A73-C82C-426A-B2D0-4560B468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B48-0F7E-4426-9BC5-6BD62640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B9B-5F7B-40C9-9841-C5746CD4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F5A-865D-464A-8B96-17836E54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CA6-397F-4BAC-94AE-8455723D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349-7267-436A-AAAF-B6F34F1F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5F1-52CD-402A-B706-E7E2B2C5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09A-8355-4742-A9E0-358D5E33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0FB-04EB-44EE-BCC4-E3FBE98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571-F4F5-4A75-BC1F-C3A5A5D3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D94-1834-45A0-9139-2528250F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68A1A-0B7C-44F0-9574-8B791B407F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