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21753"/>
        <c:axId val="49168796"/>
      </c:barChart>
      <c:catAx>
        <c:axId val="84921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8796"/>
        <c:crosses val="autoZero"/>
        <c:auto val="1"/>
        <c:lblAlgn val="ctr"/>
        <c:lblOffset val="100"/>
        <c:noMultiLvlLbl val="0"/>
      </c:catAx>
      <c:valAx>
        <c:axId val="49168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21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50F-F377-4375-948D-D4F75F27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2E2-4F9E-4441-8F18-7E291AE5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4E1-E85C-418F-A079-3B13C0B1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9CC-D03E-4AFA-A431-914D9C97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E55-2070-4035-BF1A-426D02EC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C25-CFD4-4149-8638-305CD7C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05A-239A-47CE-836F-B4CA831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70D-D4EC-488D-9905-58CC00C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317-8718-46A5-A647-8DDEF97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D0A-3D51-4457-A20A-B1E845F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FE6-F86C-474B-8443-8E470E0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044-7F1C-4DE9-822A-B72062A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EBADA-B23B-4BAB-9593-C39EE4938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